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FA49-A18B-48BE-8CF5-38813B93CB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385C3-B09B-484F-ABF4-9BF7C91B6D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FA5C-6463-4F28-8C8D-C0299090AD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3CAAD-E5D0-4AB5-AF5B-F41E315AAA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B593-6E41-46EC-8B29-D931B302625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1376B-F7EE-478E-8813-04720BB57D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92F9-2455-4951-A20A-072B7A6252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D625E-00F3-474E-8E90-26C6394608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59FF3-221A-4249-AE60-740760AF9B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19A9-BB10-45EB-A98B-D05E24E71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5B9B-B90D-4F06-9C42-44E7EC9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2727-3059-479F-A4A4-927E3E3C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DC3D-DC56-42BF-9C83-037D117E3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EA22-701A-4EC6-972B-55625E80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C303-BB1A-4BCA-A8E1-763171CF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494E-3CF9-4C30-83C3-BC2B12C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A77A-0733-4C6B-978B-8BFB4922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D7AF-2937-4FD4-A2A5-AF2F60AD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18C3-DD14-4F57-ABA3-01757832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12CE-EC14-4527-BF69-1EC5C4E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7A0A-4835-4C0F-86CF-18FB850C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A9FCDB-5563-4695-9253-C25CDBFB997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nut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CÉLULAS AUTÓTROFAS Y HETERÓTROFAS EN UNA P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7 Imagen" descr="plantaSOLA_baja.tif"/>
          <p:cNvPicPr/>
          <p:nvPr/>
        </p:nvPicPr>
        <p:blipFill>
          <a:blip r:embed="rId1"/>
          <a:stretch/>
        </p:blipFill>
        <p:spPr>
          <a:xfrm>
            <a:off x="5003640" y="1052640"/>
            <a:ext cx="3848400" cy="4868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élulas autótrofas y heterótrofas en una pla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4360" y="1700280"/>
            <a:ext cx="4248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lantas, como ya sabemos, son organismos autótrofos, es decir, fabrican su propio alimen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materia inorgá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ún así, como organismos pluricelulares tienen células autótrofas y heterótrof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8 Imagen" descr="hoja cloroplasto_alta.jpg"/>
          <p:cNvPicPr/>
          <p:nvPr/>
        </p:nvPicPr>
        <p:blipFill>
          <a:blip r:embed="rId1"/>
          <a:stretch/>
        </p:blipFill>
        <p:spPr>
          <a:xfrm>
            <a:off x="3492360" y="1177920"/>
            <a:ext cx="5167440" cy="45021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élulas autótrofas y heterótrofas en una pla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71640" y="155736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 autótrofas se encuentran en las partes verdes de la planta, como las hojas y los tallos de las herbáceas que tienen cloroplastos donde realizan la fotosínt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élulas autótrofas en pla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558972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élulas de la hoja son autótrofas, pues tienen cloroplastos dónde realizan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fotosíntes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17 Imagen" descr="2CN_01_act_celveg_013104.tif"/>
          <p:cNvPicPr/>
          <p:nvPr/>
        </p:nvPicPr>
        <p:blipFill>
          <a:blip r:embed="rId3"/>
          <a:stretch/>
        </p:blipFill>
        <p:spPr>
          <a:xfrm>
            <a:off x="684360" y="2852640"/>
            <a:ext cx="388764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élulas autótrofas y heterótrofas en una pla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934920" y="134784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 heterótrofas son incapaces de crear materia orgánica por sí mismas al carecer de cloropla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s células se alimentan gracias a la savia elaborada que se fabrica en las células autótrofas de la pl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 heterótrofas se encuentran en las partes no verdes de la planta como raíces o tallos leño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élulas heterótrofas en pla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515772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élulas de la raíz son heterótrofas al no realizar la fotosíntes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1 Imagen" descr="raiz_baja.jpg"/>
          <p:cNvPicPr/>
          <p:nvPr/>
        </p:nvPicPr>
        <p:blipFill>
          <a:blip r:embed="rId2"/>
          <a:stretch/>
        </p:blipFill>
        <p:spPr>
          <a:xfrm>
            <a:off x="2411280" y="3716280"/>
            <a:ext cx="641664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0-04T16:32:07Z</dcterms:modified>
  <cp:revision>52</cp:revision>
  <dc:subject/>
  <dc:title>Diapositiva 1</dc:title>
</cp:coreProperties>
</file>